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1E73BC-ED22-4B51-867F-76799AC495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422E50-812A-411D-B35C-D5FAE5B233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07666D-1892-40D3-84EF-7792721CC1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909293-93D1-4449-B474-945DD6CAEF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70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73AE8A-F185-4A15-8751-4FD96BC48C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3F43EA-35D6-457F-9F4F-74825865C8C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3E19DC-CBFC-4127-912C-3A1C7511534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90136B-1EDC-4FFE-AA52-81D7F4EE777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DF50D4-2FB1-4722-AE0E-CBB3F45BEB4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D11286-C967-4C99-872E-53B2BA14B8E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5F16DD-C65D-44A8-BCB7-A8F30CD3F38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70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8028DE-5822-46BD-9354-9AD303BC350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0EA62C-6832-46B4-851E-69777C2E2FD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658321-B3A9-4523-858C-B5C2BF5707E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B698B3-C3C8-49BD-90D3-48B53DDFA43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BD78D2-9B82-4D2F-BF05-68B5354184C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CE8107-FB73-44F8-B613-0A44C8C3C4C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03EBEE-D303-45C1-A039-979CFF6682BF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EEBDC-370C-425C-8A23-50D0E6E69FD8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2C141-7F99-42FB-990C-6B6245F4CC80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76117-3F25-4AB3-A563-367305DCDA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F85B77-73E3-4A1D-A374-0BF347F443A4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17354-7E1A-49A8-A9BA-76C8A4DD2797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4725D-3A80-4480-AF62-9D573D13C28E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70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A89FE-BBAA-47AA-B9E4-225138D0393D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5FB0D-F783-46D3-A923-D8F272C4982C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6F503-E324-47A4-B8A9-4B2806CDEFE7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05EDF-F214-4273-9632-8A62B59F2319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13E9A-2A17-4FC1-B293-249A0885EEBC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E1377-DF9D-4AD6-86FC-FDADC3C4289B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41165-5F8B-415F-9A06-7D71E0827F7E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612F6D-8792-4357-BC73-AB2975D02E5F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70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70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8C54F7-3F70-4844-801E-C0844DEE8A4C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7005B3-D8CE-45EF-AE91-57E02F84882E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925823-FF01-49C7-860F-FF271766CD0F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727472-6558-4B14-9826-9E121C49DAB3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EF2153-34F1-492E-BF3F-2E005A3492A7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2E0983-1DD4-49E8-A6AF-BFED2D73253F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70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370674-2260-4888-82AF-2B828A10F17A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3ED935-B62F-40A2-81DE-A0E1000C2441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40ED0D-4C4B-4A3A-82B9-7A12C91783A3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78B5EA-C2B4-4D1D-9E9E-2B1A356A75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06C5F0-A0B2-4813-9CDF-30C9E988F86A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97F1BE-F8E2-4297-93D2-F6101D551506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738C31-BEBE-4430-8001-0A7C1DB847C3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78A08E-E85D-4481-8495-3A36A238DD8D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456A95-209C-44DD-9F45-C98E57DD6F19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13962A-F387-43B5-B3B0-58536ABC515D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2C4CB4-719F-4848-A2EC-4A36A5B0EF0D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622B13-6AD9-431D-99ED-F4E307233883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CC4FFE-5E8D-43D9-81A5-39C3129E17F9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70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B6DB39-2C2E-460A-BE62-372B12187819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ECBD00-BDDD-4865-842C-84D66285CE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C767EC-3DC4-4C4E-882A-58263B458DD8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7A6247-C9A3-41AD-9B9D-7DB97EBF6894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3B7A7E-67CE-4E6E-B797-AD7E405C1A95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1AC46C-5DC6-4B4A-86C5-0F767B358712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3D9F53-B25B-4A79-80E9-D99205018B76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93C19D-B2B5-46CE-8EEA-A176375B6F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86252A-F268-4D67-B25A-66161FCC47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7960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7956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3676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9396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9396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9396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461360" y="6244920"/>
            <a:ext cx="3110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95408-04A6-4694-95D6-E0FB9284EC6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819160" y="380520"/>
            <a:ext cx="609588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 Bold"/>
              </a:rPr>
              <a:t>Click to edit the title text format</a:t>
            </a:r>
            <a:endParaRPr b="0" lang="en-US" sz="4400" spc="-1" strike="noStrike">
              <a:solidFill>
                <a:srgbClr val="0033cc"/>
              </a:solidFill>
              <a:latin typeface="Arial Bold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2819160" y="1980720"/>
            <a:ext cx="609588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marL="384120" indent="-342720">
              <a:spcBef>
                <a:spcPts val="601"/>
              </a:spcBef>
              <a:buClr>
                <a:srgbClr val="cc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  <a:p>
            <a:pPr lvl="1" marL="581040" indent="-285840">
              <a:spcBef>
                <a:spcPts val="601"/>
              </a:spcBef>
              <a:buClr>
                <a:srgbClr val="0033cc"/>
              </a:buClr>
              <a:buSzPct val="62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  <a:p>
            <a:pPr lvl="2" marL="981000" indent="-228600">
              <a:spcBef>
                <a:spcPts val="601"/>
              </a:spcBef>
              <a:buClr>
                <a:srgbClr val="cc9900"/>
              </a:buClr>
              <a:buSzPct val="62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  <a:p>
            <a:pPr lvl="3" marL="1438200" indent="-228600"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  <a:p>
            <a:pPr lvl="4" marL="1895400" indent="-228600">
              <a:spcBef>
                <a:spcPts val="601"/>
              </a:spcBef>
              <a:buClr>
                <a:srgbClr val="cc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  <a:p>
            <a:pPr lvl="5" marL="1895400" indent="-228600">
              <a:spcBef>
                <a:spcPts val="601"/>
              </a:spcBef>
              <a:buClr>
                <a:srgbClr val="00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  <a:p>
            <a:pPr lvl="6" marL="1895400" indent="-228600">
              <a:spcBef>
                <a:spcPts val="601"/>
              </a:spcBef>
              <a:buClr>
                <a:srgbClr val="00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3828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sldNum" idx="2"/>
          </p:nvPr>
        </p:nvSpPr>
        <p:spPr>
          <a:xfrm>
            <a:off x="7462800" y="6244920"/>
            <a:ext cx="3110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08095-592F-4AEE-8EC4-C5A3AF44E4F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Line 1"/>
          <p:cNvSpPr/>
          <p:nvPr/>
        </p:nvSpPr>
        <p:spPr>
          <a:xfrm>
            <a:off x="0" y="1708200"/>
            <a:ext cx="9147240" cy="1440"/>
          </a:xfrm>
          <a:prstGeom prst="line">
            <a:avLst/>
          </a:prstGeom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2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1" y="21600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819160" y="380520"/>
            <a:ext cx="609588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 Bold"/>
              </a:rPr>
              <a:t>Click to edit the title text format</a:t>
            </a:r>
            <a:endParaRPr b="0" lang="en-US" sz="4400" spc="-1" strike="noStrike">
              <a:solidFill>
                <a:srgbClr val="0033cc"/>
              </a:solidFill>
              <a:latin typeface="Arial Bol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2819160" y="1980720"/>
            <a:ext cx="609588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marL="384120" indent="-342720">
              <a:spcBef>
                <a:spcPts val="601"/>
              </a:spcBef>
              <a:buClr>
                <a:srgbClr val="cc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  <a:p>
            <a:pPr lvl="1" marL="581040" indent="-285840">
              <a:spcBef>
                <a:spcPts val="601"/>
              </a:spcBef>
              <a:buClr>
                <a:srgbClr val="0033cc"/>
              </a:buClr>
              <a:buSzPct val="62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  <a:p>
            <a:pPr lvl="2" marL="981000" indent="-228600">
              <a:spcBef>
                <a:spcPts val="601"/>
              </a:spcBef>
              <a:buClr>
                <a:srgbClr val="cc9900"/>
              </a:buClr>
              <a:buSzPct val="62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  <a:p>
            <a:pPr lvl="3" marL="1438200" indent="-228600"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  <a:p>
            <a:pPr lvl="4" marL="1895400" indent="-228600">
              <a:spcBef>
                <a:spcPts val="601"/>
              </a:spcBef>
              <a:buClr>
                <a:srgbClr val="cc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  <a:p>
            <a:pPr lvl="5" marL="1895400" indent="-228600">
              <a:spcBef>
                <a:spcPts val="601"/>
              </a:spcBef>
              <a:buClr>
                <a:srgbClr val="00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  <a:p>
            <a:pPr lvl="6" marL="1895400" indent="-228600">
              <a:spcBef>
                <a:spcPts val="601"/>
              </a:spcBef>
              <a:buClr>
                <a:srgbClr val="00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sldNum" idx="3"/>
          </p:nvPr>
        </p:nvSpPr>
        <p:spPr>
          <a:xfrm>
            <a:off x="7803720" y="6324120"/>
            <a:ext cx="311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1638D-4A73-4788-B769-078C1D863124}" type="slidenum">
              <a:rPr b="0" lang="en-US" sz="1400" spc="-1" strike="noStrike">
                <a:solidFill>
                  <a:srgbClr val="0066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819160" y="380520"/>
            <a:ext cx="609588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 Bold"/>
              </a:rPr>
              <a:t>Click to edit the title text format</a:t>
            </a:r>
            <a:endParaRPr b="0" lang="en-US" sz="4400" spc="-1" strike="noStrike">
              <a:solidFill>
                <a:srgbClr val="0033cc"/>
              </a:solidFill>
              <a:latin typeface="Arial Bol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2819160" y="1980720"/>
            <a:ext cx="609588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marL="384120" indent="-342720">
              <a:spcBef>
                <a:spcPts val="601"/>
              </a:spcBef>
              <a:buClr>
                <a:srgbClr val="cc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  <a:p>
            <a:pPr lvl="1" marL="581040" indent="-285840">
              <a:spcBef>
                <a:spcPts val="601"/>
              </a:spcBef>
              <a:buClr>
                <a:srgbClr val="0033cc"/>
              </a:buClr>
              <a:buSzPct val="62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  <a:p>
            <a:pPr lvl="2" marL="981000" indent="-228600">
              <a:spcBef>
                <a:spcPts val="601"/>
              </a:spcBef>
              <a:buClr>
                <a:srgbClr val="cc9900"/>
              </a:buClr>
              <a:buSzPct val="62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  <a:p>
            <a:pPr lvl="3" marL="1438200" indent="-228600"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  <a:p>
            <a:pPr lvl="4" marL="1895400" indent="-228600">
              <a:spcBef>
                <a:spcPts val="601"/>
              </a:spcBef>
              <a:buClr>
                <a:srgbClr val="cc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  <a:p>
            <a:pPr lvl="5" marL="1895400" indent="-228600">
              <a:spcBef>
                <a:spcPts val="601"/>
              </a:spcBef>
              <a:buClr>
                <a:srgbClr val="00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  <a:p>
            <a:pPr lvl="6" marL="1895400" indent="-228600">
              <a:spcBef>
                <a:spcPts val="601"/>
              </a:spcBef>
              <a:buClr>
                <a:srgbClr val="00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57960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2" marL="97956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3" marL="143676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4" marL="189396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5" marL="189396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6" marL="189396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 type="sldNum" idx="4"/>
          </p:nvPr>
        </p:nvSpPr>
        <p:spPr>
          <a:xfrm>
            <a:off x="7462800" y="6392520"/>
            <a:ext cx="30816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Lucida Grande"/>
                <a:ea typeface="Lucida Gran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0C8DC-800C-44A3-88A9-ED2E470BF377}" type="slidenum">
              <a:rPr b="0" lang="en-US" sz="1200" spc="-1" strike="noStrike">
                <a:solidFill>
                  <a:srgbClr val="898989"/>
                </a:solidFill>
                <a:latin typeface="Lucida Grande"/>
                <a:ea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819160" y="380520"/>
            <a:ext cx="609588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ctr">
            <a:noAutofit/>
          </a:bodyPr>
          <a:p>
            <a:pPr marL="4140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 Bold"/>
              </a:rPr>
              <a:t>Click to edit the title text format</a:t>
            </a:r>
            <a:endParaRPr b="0" lang="en-US" sz="4400" spc="-1" strike="noStrike">
              <a:solidFill>
                <a:srgbClr val="0033cc"/>
              </a:solidFill>
              <a:latin typeface="Arial Bold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2819160" y="1980720"/>
            <a:ext cx="609588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2160" tIns="50760" bIns="50760" anchor="t">
            <a:normAutofit/>
          </a:bodyPr>
          <a:p>
            <a:pPr marL="384120" indent="-342720">
              <a:spcBef>
                <a:spcPts val="601"/>
              </a:spcBef>
              <a:buClr>
                <a:srgbClr val="cc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  <a:p>
            <a:pPr lvl="1" marL="581040" indent="-285840">
              <a:spcBef>
                <a:spcPts val="601"/>
              </a:spcBef>
              <a:buClr>
                <a:srgbClr val="0033cc"/>
              </a:buClr>
              <a:buSzPct val="62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  <a:p>
            <a:pPr lvl="2" marL="981000" indent="-228600">
              <a:spcBef>
                <a:spcPts val="601"/>
              </a:spcBef>
              <a:buClr>
                <a:srgbClr val="cc9900"/>
              </a:buClr>
              <a:buSzPct val="62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  <a:p>
            <a:pPr lvl="3" marL="1438200" indent="-228600"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  <a:p>
            <a:pPr lvl="4" marL="1895400" indent="-228600">
              <a:spcBef>
                <a:spcPts val="601"/>
              </a:spcBef>
              <a:buClr>
                <a:srgbClr val="cc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  <a:p>
            <a:pPr lvl="5" marL="1895400" indent="-228600">
              <a:spcBef>
                <a:spcPts val="601"/>
              </a:spcBef>
              <a:buClr>
                <a:srgbClr val="00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  <a:p>
            <a:pPr lvl="6" marL="1895400" indent="-228600">
              <a:spcBef>
                <a:spcPts val="601"/>
              </a:spcBef>
              <a:buClr>
                <a:srgbClr val="00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sldNum" idx="5"/>
          </p:nvPr>
        </p:nvSpPr>
        <p:spPr>
          <a:xfrm>
            <a:off x="7803720" y="6324120"/>
            <a:ext cx="311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92A56-BE7D-4C4C-8B2F-22A2EB49C1C7}" type="slidenum">
              <a:rPr b="0" lang="en-US" sz="1400" spc="-1" strike="noStrike">
                <a:solidFill>
                  <a:srgbClr val="0066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ll Ringer: 9-1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the seven cont and four oce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Slide Number Placeholder 3"/>
          <p:cNvSpPr/>
          <p:nvPr/>
        </p:nvSpPr>
        <p:spPr>
          <a:xfrm>
            <a:off x="7461360" y="6245280"/>
            <a:ext cx="3110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5E718-76A3-4364-B05C-07939FC2C29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28240" y="533520"/>
            <a:ext cx="6095880" cy="1295280"/>
          </a:xfrm>
          <a:prstGeom prst="rect">
            <a:avLst/>
          </a:prstGeom>
          <a:noFill/>
          <a:ln w="0">
            <a:noFill/>
          </a:ln>
        </p:spPr>
        <p:txBody>
          <a:bodyPr lIns="38160" rIns="-6480" tIns="38160" bIns="38160" anchor="ctr">
            <a:noAutofit/>
          </a:bodyPr>
          <a:p>
            <a:pPr marL="1584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 Bold"/>
              </a:rPr>
              <a:t>Stylus  </a:t>
            </a:r>
            <a:endParaRPr b="0" lang="en-US" sz="4400" spc="-1" strike="noStrike">
              <a:solidFill>
                <a:srgbClr val="0033cc"/>
              </a:solidFill>
              <a:latin typeface="Arial Bold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33160" y="1828800"/>
            <a:ext cx="8001000" cy="5029200"/>
          </a:xfrm>
          <a:prstGeom prst="rect">
            <a:avLst/>
          </a:prstGeom>
          <a:noFill/>
          <a:ln w="0">
            <a:noFill/>
          </a:ln>
        </p:spPr>
        <p:txBody>
          <a:bodyPr lIns="38160" rIns="-6480" tIns="38160" bIns="38160" anchor="t">
            <a:normAutofit/>
          </a:bodyPr>
          <a:p>
            <a:pPr marL="3589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Bold"/>
                <a:ea typeface="Arial Bold"/>
              </a:rPr>
              <a:t>Wedge-shape instrument made out of reed--ancient pencil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12" name="Line 3"/>
          <p:cNvSpPr/>
          <p:nvPr/>
        </p:nvSpPr>
        <p:spPr>
          <a:xfrm>
            <a:off x="76320" y="1523880"/>
            <a:ext cx="8229600" cy="1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Picture 4" descr=""/>
          <p:cNvPicPr/>
          <p:nvPr/>
        </p:nvPicPr>
        <p:blipFill>
          <a:blip r:embed="rId1"/>
          <a:stretch/>
        </p:blipFill>
        <p:spPr>
          <a:xfrm>
            <a:off x="2286000" y="289548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5" descr=""/>
          <p:cNvPicPr/>
          <p:nvPr/>
        </p:nvPicPr>
        <p:blipFill>
          <a:blip r:embed="rId2"/>
          <a:stretch/>
        </p:blipFill>
        <p:spPr>
          <a:xfrm>
            <a:off x="5029200" y="2666880"/>
            <a:ext cx="2247840" cy="20811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AutoShape 1"/>
          <p:cNvSpPr/>
          <p:nvPr/>
        </p:nvSpPr>
        <p:spPr>
          <a:xfrm>
            <a:off x="0" y="843120"/>
            <a:ext cx="2897280" cy="6014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1" y="21600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257120" y="-360"/>
            <a:ext cx="6095880" cy="1600200"/>
          </a:xfrm>
          <a:prstGeom prst="rect">
            <a:avLst/>
          </a:prstGeom>
          <a:noFill/>
          <a:ln w="0">
            <a:noFill/>
          </a:ln>
        </p:spPr>
        <p:txBody>
          <a:bodyPr lIns="38160" rIns="-6480" tIns="38160" bIns="38160" anchor="ctr">
            <a:noAutofit/>
          </a:bodyPr>
          <a:p>
            <a:pPr marL="14400"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ord Splash…create on left side of Interactive Notebook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7" name=""/>
          <p:cNvGraphicFramePr/>
          <p:nvPr/>
        </p:nvGraphicFramePr>
        <p:xfrm>
          <a:off x="990720" y="1523880"/>
          <a:ext cx="6627600" cy="4530960"/>
        </p:xfrm>
        <a:graphic>
          <a:graphicData uri="http://schemas.openxmlformats.org/drawingml/2006/table">
            <a:tbl>
              <a:tblPr/>
              <a:tblGrid>
                <a:gridCol w="2743200"/>
                <a:gridCol w="3884400"/>
              </a:tblGrid>
              <a:tr h="226548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39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Write the word you are defining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1368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1368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39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Define the word given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1368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noFill/>
                  </a:tcPr>
                </a:tc>
              </a:tr>
              <a:tr h="226548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39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Draw a picture for the wor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1368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1368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39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Write a sentence using the word given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13680">
                      <a:solidFill>
                        <a:srgbClr val="0066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G 1: Word Spla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g 2: Vocab c-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Slide Number Placeholder 3"/>
          <p:cNvSpPr/>
          <p:nvPr/>
        </p:nvSpPr>
        <p:spPr>
          <a:xfrm>
            <a:off x="7461360" y="6245280"/>
            <a:ext cx="3110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32800-FF30-4FD6-A969-CB2FFF48F31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dcc"/>
                </a:solidFill>
                <a:latin typeface="Lucida Grande"/>
                <a:ea typeface="Lucida Grande"/>
              </a:rPr>
              <a:t>Foss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63904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t">
            <a:normAutofit/>
          </a:bodyPr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90b00"/>
                </a:solidFill>
                <a:latin typeface="Lucida Grande"/>
                <a:ea typeface="Lucida Grande"/>
              </a:rPr>
              <a:t>impression from a past 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Picture 3" descr=""/>
          <p:cNvPicPr/>
          <p:nvPr/>
        </p:nvPicPr>
        <p:blipFill>
          <a:blip r:embed="rId1"/>
          <a:stretch/>
        </p:blipFill>
        <p:spPr>
          <a:xfrm>
            <a:off x="0" y="2666880"/>
            <a:ext cx="4457880" cy="334332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4" descr=""/>
          <p:cNvPicPr/>
          <p:nvPr/>
        </p:nvPicPr>
        <p:blipFill>
          <a:blip r:embed="rId2"/>
          <a:stretch/>
        </p:blipFill>
        <p:spPr>
          <a:xfrm>
            <a:off x="4419720" y="2971800"/>
            <a:ext cx="4495680" cy="299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Artifa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63904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t">
            <a:normAutofit/>
          </a:bodyPr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90b00"/>
                </a:solidFill>
                <a:latin typeface="Lucida Grande"/>
                <a:ea typeface="Lucida Grande"/>
              </a:rPr>
              <a:t>items left behind by early people  ex:tools, pottery and weap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Picture 3" descr=""/>
          <p:cNvPicPr/>
          <p:nvPr/>
        </p:nvPicPr>
        <p:blipFill>
          <a:blip r:embed="rId1"/>
          <a:srcRect l="0" t="0" r="0" b="12503"/>
          <a:stretch/>
        </p:blipFill>
        <p:spPr>
          <a:xfrm>
            <a:off x="533520" y="2438280"/>
            <a:ext cx="3695760" cy="320040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4" descr=""/>
          <p:cNvPicPr/>
          <p:nvPr/>
        </p:nvPicPr>
        <p:blipFill>
          <a:blip r:embed="rId2"/>
          <a:stretch/>
        </p:blipFill>
        <p:spPr>
          <a:xfrm>
            <a:off x="4800600" y="2362320"/>
            <a:ext cx="3809880" cy="346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67920" y="647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-6480" tIns="38160" bIns="38160" anchor="ctr">
            <a:noAutofit/>
          </a:bodyPr>
          <a:p>
            <a:pPr marL="1584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 Bold"/>
              </a:rPr>
              <a:t>Mesopotamia</a:t>
            </a:r>
            <a:endParaRPr b="0" lang="en-US" sz="4400" spc="-1" strike="noStrike">
              <a:solidFill>
                <a:srgbClr val="0033cc"/>
              </a:solidFill>
              <a:latin typeface="Arial Bold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33160" y="1523880"/>
            <a:ext cx="7670520" cy="4114800"/>
          </a:xfrm>
          <a:prstGeom prst="rect">
            <a:avLst/>
          </a:prstGeom>
          <a:noFill/>
          <a:ln w="0">
            <a:noFill/>
          </a:ln>
        </p:spPr>
        <p:txBody>
          <a:bodyPr lIns="38160" rIns="-6480" tIns="38160" bIns="38160" anchor="t">
            <a:normAutofit/>
          </a:bodyPr>
          <a:p>
            <a:pPr marL="3589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Bold"/>
                <a:ea typeface="Arial Bold"/>
              </a:rPr>
              <a:t>land between the rivers (tigris and euphrates)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289" name="Picture 3" descr=""/>
          <p:cNvPicPr/>
          <p:nvPr/>
        </p:nvPicPr>
        <p:blipFill>
          <a:blip r:embed="rId1"/>
          <a:stretch/>
        </p:blipFill>
        <p:spPr>
          <a:xfrm>
            <a:off x="1712880" y="2844720"/>
            <a:ext cx="5106960" cy="3392640"/>
          </a:xfrm>
          <a:prstGeom prst="rect">
            <a:avLst/>
          </a:prstGeom>
          <a:ln w="0">
            <a:noFill/>
          </a:ln>
        </p:spPr>
      </p:pic>
      <p:sp>
        <p:nvSpPr>
          <p:cNvPr id="290" name="Line 4"/>
          <p:cNvSpPr/>
          <p:nvPr/>
        </p:nvSpPr>
        <p:spPr>
          <a:xfrm>
            <a:off x="457200" y="1523880"/>
            <a:ext cx="8229600" cy="1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2819160" y="533520"/>
            <a:ext cx="6095880" cy="1295280"/>
          </a:xfrm>
          <a:prstGeom prst="rect">
            <a:avLst/>
          </a:prstGeom>
          <a:noFill/>
          <a:ln w="0">
            <a:noFill/>
          </a:ln>
        </p:spPr>
        <p:txBody>
          <a:bodyPr lIns="38160" rIns="-6480" tIns="38160" bIns="38160" anchor="ctr">
            <a:noAutofit/>
          </a:bodyPr>
          <a:p>
            <a:pPr marL="1584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 Bold"/>
              </a:rPr>
              <a:t>levees</a:t>
            </a:r>
            <a:endParaRPr b="0" lang="en-US" sz="4400" spc="-1" strike="noStrike">
              <a:solidFill>
                <a:srgbClr val="0033cc"/>
              </a:solidFill>
              <a:latin typeface="Arial Bold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228600" y="18288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38160" rIns="-6480" tIns="38160" bIns="38160" anchor="t">
            <a:normAutofit/>
          </a:bodyPr>
          <a:p>
            <a:pPr marL="3589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Bold"/>
                <a:ea typeface="Arial Bold"/>
              </a:rPr>
              <a:t>raised areas of the earth to hold back flood waters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93" name="Line 3"/>
          <p:cNvSpPr/>
          <p:nvPr/>
        </p:nvSpPr>
        <p:spPr>
          <a:xfrm>
            <a:off x="457200" y="1676520"/>
            <a:ext cx="8229600" cy="144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Picture 4" descr=""/>
          <p:cNvPicPr/>
          <p:nvPr/>
        </p:nvPicPr>
        <p:blipFill>
          <a:blip r:embed="rId1"/>
          <a:stretch/>
        </p:blipFill>
        <p:spPr>
          <a:xfrm>
            <a:off x="1422360" y="2870280"/>
            <a:ext cx="2971800" cy="222876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5" descr=""/>
          <p:cNvPicPr/>
          <p:nvPr/>
        </p:nvPicPr>
        <p:blipFill>
          <a:blip r:embed="rId2"/>
          <a:stretch/>
        </p:blipFill>
        <p:spPr>
          <a:xfrm>
            <a:off x="4508640" y="2590920"/>
            <a:ext cx="3251160" cy="24382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711000" y="380520"/>
            <a:ext cx="8204040" cy="1600200"/>
          </a:xfrm>
          <a:prstGeom prst="rect">
            <a:avLst/>
          </a:prstGeom>
          <a:noFill/>
          <a:ln w="0">
            <a:noFill/>
          </a:ln>
        </p:spPr>
        <p:txBody>
          <a:bodyPr lIns="38160" rIns="-6480" tIns="38160" bIns="38160" anchor="ctr">
            <a:noAutofit/>
          </a:bodyPr>
          <a:p>
            <a:pPr marL="1584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 Bold"/>
              </a:rPr>
              <a:t>irrigate</a:t>
            </a:r>
            <a:endParaRPr b="0" lang="en-US" sz="4400" spc="-1" strike="noStrike">
              <a:solidFill>
                <a:srgbClr val="0033cc"/>
              </a:solidFill>
              <a:latin typeface="Arial Bold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71320" y="1980720"/>
            <a:ext cx="8343720" cy="4876920"/>
          </a:xfrm>
          <a:prstGeom prst="rect">
            <a:avLst/>
          </a:prstGeom>
          <a:noFill/>
          <a:ln w="0">
            <a:noFill/>
          </a:ln>
        </p:spPr>
        <p:txBody>
          <a:bodyPr lIns="38160" rIns="-6480" tIns="38160" bIns="38160" anchor="t">
            <a:normAutofit/>
          </a:bodyPr>
          <a:p>
            <a:pPr marL="3589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Bold"/>
                <a:ea typeface="Arial Bold"/>
              </a:rPr>
              <a:t>system to water crops using canals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98" name="Line 3"/>
          <p:cNvSpPr/>
          <p:nvPr/>
        </p:nvSpPr>
        <p:spPr>
          <a:xfrm>
            <a:off x="457200" y="1676520"/>
            <a:ext cx="8229600" cy="144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Picture 4" descr=""/>
          <p:cNvPicPr/>
          <p:nvPr/>
        </p:nvPicPr>
        <p:blipFill>
          <a:blip r:embed="rId1"/>
          <a:stretch/>
        </p:blipFill>
        <p:spPr>
          <a:xfrm>
            <a:off x="3352680" y="2901960"/>
            <a:ext cx="2362320" cy="18032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609624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-6480" tIns="38160" bIns="38160" anchor="ctr">
            <a:noAutofit/>
          </a:bodyPr>
          <a:p>
            <a:pPr marL="1584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 Bold"/>
              </a:rPr>
              <a:t>City-State</a:t>
            </a:r>
            <a:endParaRPr b="0" lang="en-US" sz="4400" spc="-1" strike="noStrike">
              <a:solidFill>
                <a:srgbClr val="0033cc"/>
              </a:solidFill>
              <a:latin typeface="Arial Bold"/>
            </a:endParaRPr>
          </a:p>
        </p:txBody>
      </p:sp>
      <p:sp>
        <p:nvSpPr>
          <p:cNvPr id="301" name="Rectangle 2"/>
          <p:cNvSpPr/>
          <p:nvPr/>
        </p:nvSpPr>
        <p:spPr>
          <a:xfrm>
            <a:off x="533520" y="1676520"/>
            <a:ext cx="8204040" cy="7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Bold"/>
                <a:ea typeface="Arial Bold"/>
              </a:rPr>
              <a:t>A Self governing city and the lands surrounding 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Line 3"/>
          <p:cNvSpPr/>
          <p:nvPr/>
        </p:nvSpPr>
        <p:spPr>
          <a:xfrm>
            <a:off x="457200" y="1676520"/>
            <a:ext cx="8229600" cy="144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Picture 4" descr=""/>
          <p:cNvPicPr/>
          <p:nvPr/>
        </p:nvPicPr>
        <p:blipFill>
          <a:blip r:embed="rId1"/>
          <a:stretch/>
        </p:blipFill>
        <p:spPr>
          <a:xfrm>
            <a:off x="685800" y="2590920"/>
            <a:ext cx="2328840" cy="274320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5" descr=""/>
          <p:cNvPicPr/>
          <p:nvPr/>
        </p:nvPicPr>
        <p:blipFill>
          <a:blip r:embed="rId2"/>
          <a:stretch/>
        </p:blipFill>
        <p:spPr>
          <a:xfrm>
            <a:off x="4114800" y="2438280"/>
            <a:ext cx="3886200" cy="27370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228240" y="9140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-6480" tIns="38160" bIns="38160" anchor="ctr">
            <a:noAutofit/>
          </a:bodyPr>
          <a:p>
            <a:pPr marL="1584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 Bold"/>
              </a:rPr>
              <a:t>Cuneiform</a:t>
            </a:r>
            <a:endParaRPr b="0" lang="en-US" sz="4400" spc="-1" strike="noStrike">
              <a:solidFill>
                <a:srgbClr val="0033cc"/>
              </a:solidFill>
              <a:latin typeface="Arial Bold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75248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38160" rIns="-6480" tIns="38160" bIns="38160" anchor="t">
            <a:normAutofit/>
          </a:bodyPr>
          <a:p>
            <a:pPr marL="3589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Bold"/>
                <a:ea typeface="Arial Bold"/>
              </a:rPr>
              <a:t>World’s first known writing system--based on lines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07" name="Line 3"/>
          <p:cNvSpPr/>
          <p:nvPr/>
        </p:nvSpPr>
        <p:spPr>
          <a:xfrm>
            <a:off x="304920" y="1676520"/>
            <a:ext cx="8229600" cy="144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Picture 4" descr=""/>
          <p:cNvPicPr/>
          <p:nvPr/>
        </p:nvPicPr>
        <p:blipFill>
          <a:blip r:embed="rId1"/>
          <a:stretch/>
        </p:blipFill>
        <p:spPr>
          <a:xfrm>
            <a:off x="647640" y="2882880"/>
            <a:ext cx="2590920" cy="249084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5" descr=""/>
          <p:cNvPicPr/>
          <p:nvPr/>
        </p:nvPicPr>
        <p:blipFill>
          <a:blip r:embed="rId2"/>
          <a:stretch/>
        </p:blipFill>
        <p:spPr>
          <a:xfrm>
            <a:off x="3598920" y="2870280"/>
            <a:ext cx="4935600" cy="25398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York</dc:creator>
  <dc:description/>
  <cp:keywords/>
  <dc:language>en-US</dc:language>
  <cp:lastModifiedBy>TylerDaughtry</cp:lastModifiedBy>
  <dcterms:modified xsi:type="dcterms:W3CDTF">2013-09-17T16:50:43Z</dcterms:modified>
  <cp:revision>5</cp:revision>
  <dc:subject/>
  <dc:title>Slide 1</dc:title>
</cp:coreProperties>
</file>